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F93-EE7D-44EB-95BD-930487DFDCE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894-508C-409C-8EF7-DFED173A091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6680" cy="46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B4E-019F-4BF0-AEC9-D4A4917E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BB7-0D8E-427C-B19E-AA5DD27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6FD-8BF2-4A97-8D0E-CB4E7B40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2CE-42AD-4575-9B0C-BC3BCF6C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415-3742-49DB-9A6B-F11412A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E4B-EF22-4F84-A1C6-CCF6171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CBF-FE67-4B7A-AB93-4A33F5D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CA6-86E1-4B89-8764-6C61F1B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797-220B-4898-8C82-17FFDC4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AA9-9574-4306-A7B2-5FB23D2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C69-25D8-446A-BBD8-98C617A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DB3-DA8E-480A-B02C-87A19BE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9B5-795A-4A3B-AC53-342C1EE7D11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360" y="1213920"/>
            <a:ext cx="714348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İNOVASYON             için                   İŞBİRLİĞ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5734080"/>
            <a:ext cx="3095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Metin Durgut,  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Eskişehir , Ocak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229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İNOVASYON AĞYA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4240" y="1414080"/>
            <a:ext cx="79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novasyon ağyapıs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novasyon yapmak için işbirliğine giden, değişik bilgi ve beceri kaynaklarını genellikle yeni kombinasyonlar içinde  bir araya getiren v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lası bir inovasyonu müzakere 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ovasyon bağlamını ortaya ko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ovasyonu gerçekleşti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törlerin ağyapısıdı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ED1F-5F51-4EA8-B425-99A33ED80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072280" y="5948280"/>
            <a:ext cx="61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980-83EB-4BAC-8C72-C052AABBF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42" descr=""/>
          <p:cNvPicPr/>
          <p:nvPr/>
        </p:nvPicPr>
        <p:blipFill>
          <a:blip r:embed="rId1"/>
          <a:stretch/>
        </p:blipFill>
        <p:spPr>
          <a:xfrm>
            <a:off x="774720" y="1987560"/>
            <a:ext cx="11700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09"/>
          <p:cNvGrpSpPr/>
          <p:nvPr/>
        </p:nvGrpSpPr>
        <p:grpSpPr>
          <a:xfrm>
            <a:off x="7054920" y="1785960"/>
            <a:ext cx="1928880" cy="428760"/>
            <a:chOff x="7054920" y="1785960"/>
            <a:chExt cx="1928880" cy="428760"/>
          </a:xfrm>
        </p:grpSpPr>
        <p:sp>
          <p:nvSpPr>
            <p:cNvPr id="172" name="Rectangle 46"/>
            <p:cNvSpPr/>
            <p:nvPr/>
          </p:nvSpPr>
          <p:spPr>
            <a:xfrm>
              <a:off x="7054920" y="1785960"/>
              <a:ext cx="1928880" cy="428760"/>
            </a:xfrm>
            <a:prstGeom prst="rect">
              <a:avLst/>
            </a:prstGeom>
            <a:solidFill>
              <a:srgbClr val="ffe47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47"/>
            <p:cNvSpPr/>
            <p:nvPr/>
          </p:nvSpPr>
          <p:spPr>
            <a:xfrm>
              <a:off x="7126200" y="1844640"/>
              <a:ext cx="1786320" cy="30708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ovasyon servisle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Group 65" descr=""/>
          <p:cNvPicPr/>
          <p:nvPr/>
        </p:nvPicPr>
        <p:blipFill>
          <a:blip r:embed="rId2"/>
          <a:stretch/>
        </p:blipFill>
        <p:spPr>
          <a:xfrm>
            <a:off x="7632720" y="3486240"/>
            <a:ext cx="1388880" cy="4525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00" descr=""/>
          <p:cNvPicPr/>
          <p:nvPr/>
        </p:nvPicPr>
        <p:blipFill>
          <a:blip r:embed="rId3"/>
          <a:stretch/>
        </p:blipFill>
        <p:spPr>
          <a:xfrm>
            <a:off x="6986520" y="5194440"/>
            <a:ext cx="1962360" cy="4680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54" descr=""/>
          <p:cNvPicPr/>
          <p:nvPr/>
        </p:nvPicPr>
        <p:blipFill>
          <a:blip r:embed="rId4"/>
          <a:stretch/>
        </p:blipFill>
        <p:spPr>
          <a:xfrm>
            <a:off x="487440" y="3548160"/>
            <a:ext cx="103032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Group 99" descr=""/>
          <p:cNvPicPr/>
          <p:nvPr/>
        </p:nvPicPr>
        <p:blipFill>
          <a:blip r:embed="rId5"/>
          <a:stretch/>
        </p:blipFill>
        <p:spPr>
          <a:xfrm>
            <a:off x="560520" y="5200560"/>
            <a:ext cx="1603080" cy="401760"/>
          </a:xfrm>
          <a:prstGeom prst="rect">
            <a:avLst/>
          </a:prstGeom>
          <a:ln w="0">
            <a:noFill/>
          </a:ln>
        </p:spPr>
      </p:pic>
      <p:sp>
        <p:nvSpPr>
          <p:cNvPr id="178" name="Oval 67"/>
          <p:cNvSpPr/>
          <p:nvPr/>
        </p:nvSpPr>
        <p:spPr>
          <a:xfrm>
            <a:off x="1500120" y="1203480"/>
            <a:ext cx="6143760" cy="500040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8"/>
          <p:cNvSpPr/>
          <p:nvPr/>
        </p:nvSpPr>
        <p:spPr>
          <a:xfrm>
            <a:off x="3821040" y="12034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üniversite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9"/>
          <p:cNvSpPr/>
          <p:nvPr/>
        </p:nvSpPr>
        <p:spPr>
          <a:xfrm>
            <a:off x="4500720" y="1488960"/>
            <a:ext cx="150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aştırma tesisler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0"/>
          <p:cNvSpPr/>
          <p:nvPr/>
        </p:nvSpPr>
        <p:spPr>
          <a:xfrm>
            <a:off x="5000760" y="178452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k. trans. ofisler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5715000" y="20700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k. eğiti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2"/>
          <p:cNvSpPr/>
          <p:nvPr/>
        </p:nvSpPr>
        <p:spPr>
          <a:xfrm>
            <a:off x="6040440" y="239544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nışmanlı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3"/>
          <p:cNvSpPr/>
          <p:nvPr/>
        </p:nvSpPr>
        <p:spPr>
          <a:xfrm>
            <a:off x="6143760" y="2784600"/>
            <a:ext cx="142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sk sermaye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4"/>
          <p:cNvSpPr/>
          <p:nvPr/>
        </p:nvSpPr>
        <p:spPr>
          <a:xfrm>
            <a:off x="6429240" y="32130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üşteri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5"/>
          <p:cNvSpPr/>
          <p:nvPr/>
        </p:nvSpPr>
        <p:spPr>
          <a:xfrm>
            <a:off x="6500880" y="364176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darikçi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6"/>
          <p:cNvSpPr/>
          <p:nvPr/>
        </p:nvSpPr>
        <p:spPr>
          <a:xfrm>
            <a:off x="6429240" y="40608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kip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7"/>
          <p:cNvSpPr/>
          <p:nvPr/>
        </p:nvSpPr>
        <p:spPr>
          <a:xfrm>
            <a:off x="6072120" y="4489560"/>
            <a:ext cx="128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t yüklenici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8"/>
          <p:cNvSpPr/>
          <p:nvPr/>
        </p:nvSpPr>
        <p:spPr>
          <a:xfrm>
            <a:off x="5786280" y="4846680"/>
            <a:ext cx="1357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şbirliği ortaklar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9"/>
          <p:cNvSpPr/>
          <p:nvPr/>
        </p:nvSpPr>
        <p:spPr>
          <a:xfrm>
            <a:off x="6000840" y="5213520"/>
            <a:ext cx="714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Ar-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0"/>
          <p:cNvSpPr/>
          <p:nvPr/>
        </p:nvSpPr>
        <p:spPr>
          <a:xfrm>
            <a:off x="4643280" y="5489640"/>
            <a:ext cx="164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çalışan  nitelikler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1"/>
          <p:cNvSpPr/>
          <p:nvPr/>
        </p:nvSpPr>
        <p:spPr>
          <a:xfrm>
            <a:off x="3286080" y="577548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ma dalı ve büyüklüğ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2"/>
          <p:cNvSpPr/>
          <p:nvPr/>
        </p:nvSpPr>
        <p:spPr>
          <a:xfrm>
            <a:off x="3036960" y="152712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ühendis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3"/>
          <p:cNvSpPr/>
          <p:nvPr/>
        </p:nvSpPr>
        <p:spPr>
          <a:xfrm>
            <a:off x="2428920" y="184644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konomik servis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4"/>
          <p:cNvSpPr/>
          <p:nvPr/>
        </p:nvSpPr>
        <p:spPr>
          <a:xfrm>
            <a:off x="2071800" y="2203560"/>
            <a:ext cx="142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nsal dest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5"/>
          <p:cNvSpPr/>
          <p:nvPr/>
        </p:nvSpPr>
        <p:spPr>
          <a:xfrm>
            <a:off x="1857240" y="2560680"/>
            <a:ext cx="1571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ölgesel siyasal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6"/>
          <p:cNvSpPr/>
          <p:nvPr/>
        </p:nvSpPr>
        <p:spPr>
          <a:xfrm>
            <a:off x="1500120" y="295596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lusal/uluslar arası siyasal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7"/>
          <p:cNvSpPr/>
          <p:nvPr/>
        </p:nvSpPr>
        <p:spPr>
          <a:xfrm>
            <a:off x="1500120" y="35272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k. merkezleri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e bilim parklar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8"/>
          <p:cNvSpPr/>
          <p:nvPr/>
        </p:nvSpPr>
        <p:spPr>
          <a:xfrm>
            <a:off x="1643040" y="4070520"/>
            <a:ext cx="128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knik altyap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9"/>
          <p:cNvSpPr/>
          <p:nvPr/>
        </p:nvSpPr>
        <p:spPr>
          <a:xfrm>
            <a:off x="1857240" y="4456080"/>
            <a:ext cx="18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şgücü eğitim düzeyi (potansiyel ve gerçek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0"/>
          <p:cNvSpPr/>
          <p:nvPr/>
        </p:nvSpPr>
        <p:spPr>
          <a:xfrm>
            <a:off x="2214720" y="4998960"/>
            <a:ext cx="128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aşam kalite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1"/>
          <p:cNvSpPr/>
          <p:nvPr/>
        </p:nvSpPr>
        <p:spPr>
          <a:xfrm>
            <a:off x="2571840" y="5356080"/>
            <a:ext cx="150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ovasyon kültür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8"/>
          <p:cNvGrpSpPr/>
          <p:nvPr/>
        </p:nvGrpSpPr>
        <p:grpSpPr>
          <a:xfrm>
            <a:off x="3071880" y="2203560"/>
            <a:ext cx="3044880" cy="2987640"/>
            <a:chOff x="3071880" y="2203560"/>
            <a:chExt cx="3044880" cy="2987640"/>
          </a:xfrm>
        </p:grpSpPr>
        <p:sp>
          <p:nvSpPr>
            <p:cNvPr id="204" name="Quad Arrow Callout 93"/>
            <p:cNvSpPr/>
            <p:nvPr/>
          </p:nvSpPr>
          <p:spPr>
            <a:xfrm>
              <a:off x="3071880" y="2203560"/>
              <a:ext cx="3044880" cy="298764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5"/>
            <p:cNvSpPr/>
            <p:nvPr/>
          </p:nvSpPr>
          <p:spPr>
            <a:xfrm>
              <a:off x="3670200" y="3163680"/>
              <a:ext cx="1839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Bölges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İnovasyon Sistemi Ağyapılar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96"/>
          <p:cNvSpPr/>
          <p:nvPr/>
        </p:nvSpPr>
        <p:spPr>
          <a:xfrm>
            <a:off x="115920" y="663480"/>
            <a:ext cx="8929800" cy="459720"/>
          </a:xfrm>
          <a:prstGeom prst="rect">
            <a:avLst/>
          </a:prstGeom>
          <a:solidFill>
            <a:srgbClr val="bdffff"/>
          </a:solidFill>
          <a:ln w="9360">
            <a:solidFill>
              <a:srgbClr val="30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Berlin Sans FB"/>
                <a:ea typeface="Aharoni"/>
              </a:rPr>
              <a:t>ulusal/ulusüstü                                         </a:t>
            </a:r>
            <a:r>
              <a:rPr b="0" lang="tr-TR" sz="2400" spc="-1" strike="noStrike">
                <a:solidFill>
                  <a:srgbClr val="000000"/>
                </a:solidFill>
                <a:latin typeface="Berlin Sans FB"/>
              </a:rPr>
              <a:t>inovasyon siste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8"/>
          <p:cNvSpPr/>
          <p:nvPr/>
        </p:nvSpPr>
        <p:spPr>
          <a:xfrm>
            <a:off x="142920" y="6191280"/>
            <a:ext cx="8858160" cy="459720"/>
          </a:xfrm>
          <a:prstGeom prst="rect">
            <a:avLst/>
          </a:prstGeom>
          <a:solidFill>
            <a:srgbClr val="bdffff"/>
          </a:solidFill>
          <a:ln w="9360">
            <a:solidFill>
              <a:srgbClr val="30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Berlin Sans FB"/>
              </a:rPr>
              <a:t>sektörel/teknolojik                                 inovasyon siste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596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ÖLGESEL İNOVASYON SİSTEM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Up-Down Arrow 104"/>
          <p:cNvSpPr/>
          <p:nvPr/>
        </p:nvSpPr>
        <p:spPr>
          <a:xfrm rot="18729000">
            <a:off x="2084400" y="1167840"/>
            <a:ext cx="357120" cy="7034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33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Up-Down Arrow 105"/>
          <p:cNvSpPr/>
          <p:nvPr/>
        </p:nvSpPr>
        <p:spPr>
          <a:xfrm rot="18729000">
            <a:off x="6554160" y="5601600"/>
            <a:ext cx="357120" cy="62856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ff33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Up-Down Arrow 107"/>
          <p:cNvSpPr/>
          <p:nvPr/>
        </p:nvSpPr>
        <p:spPr>
          <a:xfrm rot="2810400">
            <a:off x="6597000" y="1159560"/>
            <a:ext cx="357120" cy="673200"/>
          </a:xfrm>
          <a:prstGeom prst="upDownArrow">
            <a:avLst>
              <a:gd name="adj1" fmla="val 50000"/>
              <a:gd name="adj2" fmla="val 50016"/>
            </a:avLst>
          </a:prstGeom>
          <a:solidFill>
            <a:srgbClr val="ff33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Up-Down Arrow 108"/>
          <p:cNvSpPr/>
          <p:nvPr/>
        </p:nvSpPr>
        <p:spPr>
          <a:xfrm rot="2810400">
            <a:off x="2264400" y="5607360"/>
            <a:ext cx="357120" cy="5968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33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10"/>
          <p:cNvGrpSpPr/>
          <p:nvPr/>
        </p:nvGrpSpPr>
        <p:grpSpPr>
          <a:xfrm>
            <a:off x="3138480" y="773280"/>
            <a:ext cx="2500200" cy="428400"/>
            <a:chOff x="3138480" y="773280"/>
            <a:chExt cx="2500200" cy="428400"/>
          </a:xfrm>
        </p:grpSpPr>
        <p:sp>
          <p:nvSpPr>
            <p:cNvPr id="214" name="Rectangle 111"/>
            <p:cNvSpPr/>
            <p:nvPr/>
          </p:nvSpPr>
          <p:spPr>
            <a:xfrm>
              <a:off x="3138480" y="773280"/>
              <a:ext cx="2500200" cy="428400"/>
            </a:xfrm>
            <a:prstGeom prst="rect">
              <a:avLst/>
            </a:prstGeom>
            <a:solidFill>
              <a:srgbClr val="ffe47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12"/>
            <p:cNvSpPr/>
            <p:nvPr/>
          </p:nvSpPr>
          <p:spPr>
            <a:xfrm>
              <a:off x="3209760" y="844560"/>
              <a:ext cx="2357640" cy="30708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lim sektörü/ teknoloji arz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13"/>
          <p:cNvGrpSpPr/>
          <p:nvPr/>
        </p:nvGrpSpPr>
        <p:grpSpPr>
          <a:xfrm>
            <a:off x="3710160" y="6199200"/>
            <a:ext cx="1714320" cy="417600"/>
            <a:chOff x="3710160" y="6199200"/>
            <a:chExt cx="1714320" cy="417600"/>
          </a:xfrm>
        </p:grpSpPr>
        <p:sp>
          <p:nvSpPr>
            <p:cNvPr id="217" name="Rectangle 114"/>
            <p:cNvSpPr/>
            <p:nvPr/>
          </p:nvSpPr>
          <p:spPr>
            <a:xfrm>
              <a:off x="3710160" y="6199200"/>
              <a:ext cx="1714320" cy="417600"/>
            </a:xfrm>
            <a:prstGeom prst="rect">
              <a:avLst/>
            </a:prstGeom>
            <a:solidFill>
              <a:srgbClr val="ffe47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15"/>
            <p:cNvSpPr/>
            <p:nvPr/>
          </p:nvSpPr>
          <p:spPr>
            <a:xfrm>
              <a:off x="3852720" y="6257520"/>
              <a:ext cx="1500120" cy="30708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firma Ar-Ge’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3"/>
          <p:cNvGrpSpPr/>
          <p:nvPr/>
        </p:nvGrpSpPr>
        <p:grpSpPr>
          <a:xfrm>
            <a:off x="1357200" y="1052640"/>
            <a:ext cx="6500880" cy="4613040"/>
            <a:chOff x="1357200" y="1052640"/>
            <a:chExt cx="6500880" cy="4613040"/>
          </a:xfrm>
        </p:grpSpPr>
        <p:sp>
          <p:nvSpPr>
            <p:cNvPr id="220" name="Rectangle 5"/>
            <p:cNvSpPr/>
            <p:nvPr/>
          </p:nvSpPr>
          <p:spPr>
            <a:xfrm>
              <a:off x="3500280" y="3357720"/>
              <a:ext cx="2143080" cy="1319040"/>
            </a:xfrm>
            <a:prstGeom prst="rect">
              <a:avLst/>
            </a:prstGeom>
            <a:solidFill>
              <a:srgbClr val="dfe9fd"/>
            </a:solidFill>
            <a:ln w="22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irleştirilmi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aynak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yetenekl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sli yetkinlik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1357200" y="2273400"/>
              <a:ext cx="1844640" cy="928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aynak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yetenek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sli yetkinlik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2214360" y="1052640"/>
              <a:ext cx="1928880" cy="1292040"/>
            </a:xfrm>
            <a:prstGeom prst="ellipse">
              <a:avLst/>
            </a:prstGeom>
            <a:solidFill>
              <a:srgbClr val="ffe593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kuruluş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AutoShape 12"/>
            <p:cNvCxnSpPr/>
            <p:nvPr/>
          </p:nvCxnSpPr>
          <p:spPr>
            <a:xfrm rot="5400000">
              <a:off x="5873400" y="2971440"/>
              <a:ext cx="440280" cy="900720"/>
            </a:xfrm>
            <a:prstGeom prst="bentConnector2">
              <a:avLst/>
            </a:prstGeom>
            <a:ln cap="sq" w="28440">
              <a:solidFill>
                <a:srgbClr val="006699"/>
              </a:solidFill>
              <a:miter/>
              <a:tailEnd len="lg" type="stealth" w="med"/>
            </a:ln>
          </p:spPr>
        </p:cxnSp>
        <p:cxnSp>
          <p:nvCxnSpPr>
            <p:cNvPr id="224" name="AutoShape 13"/>
            <p:cNvCxnSpPr/>
            <p:nvPr/>
          </p:nvCxnSpPr>
          <p:spPr>
            <a:xfrm flipH="1" rot="16200000">
              <a:off x="2905920" y="3049920"/>
              <a:ext cx="438480" cy="749880"/>
            </a:xfrm>
            <a:prstGeom prst="bentConnector2">
              <a:avLst/>
            </a:prstGeom>
            <a:ln cap="sq" w="28440">
              <a:solidFill>
                <a:srgbClr val="006699"/>
              </a:solidFill>
              <a:miter/>
              <a:tailEnd len="lg" type="stealth" w="med"/>
            </a:ln>
          </p:spPr>
        </p:cxnSp>
        <p:cxnSp>
          <p:nvCxnSpPr>
            <p:cNvPr id="225" name="AutoShape 17"/>
            <p:cNvCxnSpPr/>
            <p:nvPr/>
          </p:nvCxnSpPr>
          <p:spPr>
            <a:xfrm flipH="1">
              <a:off x="4571280" y="4678920"/>
              <a:ext cx="1080" cy="432360"/>
            </a:xfrm>
            <a:prstGeom prst="straightConnector1">
              <a:avLst/>
            </a:prstGeom>
            <a:ln cap="sq" w="28440">
              <a:solidFill>
                <a:srgbClr val="006699"/>
              </a:solidFill>
              <a:miter/>
              <a:tailEnd len="lg" type="stealth" w="med"/>
            </a:ln>
          </p:spPr>
        </p:cxnSp>
        <p:sp>
          <p:nvSpPr>
            <p:cNvPr id="226" name="Rectangle 20"/>
            <p:cNvSpPr/>
            <p:nvPr/>
          </p:nvSpPr>
          <p:spPr>
            <a:xfrm>
              <a:off x="5929200" y="2201760"/>
              <a:ext cx="1928880" cy="10000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kaynak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yetenek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sli yetkinlik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3"/>
            <p:cNvSpPr/>
            <p:nvPr/>
          </p:nvSpPr>
          <p:spPr>
            <a:xfrm>
              <a:off x="4929120" y="1058760"/>
              <a:ext cx="2000160" cy="1292040"/>
            </a:xfrm>
            <a:prstGeom prst="ellipse">
              <a:avLst/>
            </a:prstGeom>
            <a:solidFill>
              <a:srgbClr val="abfaa0"/>
            </a:solidFill>
            <a:ln w="22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kuruluş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32"/>
            <p:cNvGrpSpPr/>
            <p:nvPr/>
          </p:nvGrpSpPr>
          <p:grpSpPr>
            <a:xfrm>
              <a:off x="3429000" y="5089680"/>
              <a:ext cx="2320920" cy="576000"/>
              <a:chOff x="3429000" y="5089680"/>
              <a:chExt cx="2320920" cy="576000"/>
            </a:xfrm>
          </p:grpSpPr>
          <p:sp>
            <p:nvSpPr>
              <p:cNvPr id="229" name="Rounded Rectangle 29"/>
              <p:cNvSpPr/>
              <p:nvPr/>
            </p:nvSpPr>
            <p:spPr>
              <a:xfrm>
                <a:off x="3429000" y="5089680"/>
                <a:ext cx="232092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facfa0"/>
              </a:solidFill>
              <a:ln w="22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4"/>
              <p:cNvSpPr/>
              <p:nvPr/>
            </p:nvSpPr>
            <p:spPr>
              <a:xfrm>
                <a:off x="3470040" y="5187960"/>
                <a:ext cx="219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karşılıklı  yarar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JİK  İŞBİRLİĞ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A2B-836F-4EC0-A9D8-5C8E2D62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165720"/>
            <a:ext cx="8137800" cy="398880"/>
          </a:xfrm>
          <a:prstGeom prst="rect">
            <a:avLst/>
          </a:prstGeom>
          <a:solidFill>
            <a:srgbClr val="ffed9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oru:  kuruluşların yetenekleri ne kadar “benzer – farklı” olmal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ÖĞRENMEDE ve İNOVASYONDA           UZMANLAŞMA - ÇEŞİTLENDİRME İKİLEM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1628640"/>
            <a:ext cx="3457800" cy="1265040"/>
          </a:xfrm>
          <a:prstGeom prst="rect">
            <a:avLst/>
          </a:prstGeom>
          <a:solidFill>
            <a:srgbClr val="d6effa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ktörel uzmanlaş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ktörel bilgi sızma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ktörel inovas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3976560"/>
            <a:ext cx="3456000" cy="1387080"/>
          </a:xfrm>
          <a:prstGeom prst="rect">
            <a:avLst/>
          </a:prstGeom>
          <a:solidFill>
            <a:srgbClr val="d9d9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ektörel çeşitli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ktörler arası bilgi akım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ölgesel inovas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1576440"/>
            <a:ext cx="4500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asik küme:  statik dışsallık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işmekteki küme: uzmanlaşma avantaj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3933720"/>
            <a:ext cx="4321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Portergil küme: dinam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ışsallık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olgunlaşmış küme: çeşitlilik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vantaj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1640" y="5956200"/>
            <a:ext cx="8244000" cy="642600"/>
          </a:xfrm>
          <a:prstGeom prst="rect">
            <a:avLst/>
          </a:prstGeom>
          <a:solidFill>
            <a:srgbClr val="ffed9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Çözümleme:  bilgi akışı ve işbirliği, karşılıklı olarak tamamlayıcı /paylaşılmış yeteneklere sahip sektörler arasında etkin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4978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ĞURUCU  KAPASİTE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(absorbtive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5120" y="1628640"/>
            <a:ext cx="7389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ganizasyon dışındaki bilgiy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z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ransfer 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züms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ygulamalarında kullanma yetene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oğurucu kapasite sayesin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ransfer edilen bilginin örtüklüğü kaldırıl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thal edilen bilgi kullanım için işlenir, değiştir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ni bilgi yaratıl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4D3-5D1F-4B22-B0E1-2C124CF2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BİRLİKÇİ KAPASİTE</a:t>
            </a:r>
            <a:br>
              <a:rPr sz="2800"/>
            </a:b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(collaborative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İşbirlikçi kapasite, işbirliği ilişkisinin tarafların güvenlerini sarsmadan taşıyabileceğ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liyet düzeyi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ğişim dereces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af güve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şbirliğine konu fiziksel kaynakları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ğımlılık sonucu doğan güç kabını ve ilişkide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metriyi kaps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1BC-F4BA-44E6-B58E-424CCFD6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ŞBİRLİKÇİ KAPASİTE - BOYUT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1000" y="999720"/>
            <a:ext cx="8758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800000"/>
                </a:solidFill>
                <a:latin typeface="Arial"/>
              </a:rPr>
              <a:t>Stratejik kapasi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tarafların gündemlerini uyumlulaştıran, işbirliğinin müdahale ve paylaşım kapsamını belirleyen “işbirlikçi üstünlük” (cooperative advant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800000"/>
                </a:solidFill>
                <a:latin typeface="Arial"/>
              </a:rPr>
              <a:t>Yönetişim kapasit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işbirlikçi eylemin “iyi yönetişimi” için gerekli mekanizmaların geliştirilmesi (kaynak kullanımı yönetimi, hesap verebilirlik v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800000"/>
                </a:solidFill>
                <a:latin typeface="Arial"/>
              </a:rPr>
              <a:t>Operasyonel kapasi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tarafların, yeni servisler veya projeler sunabilmek amacıyla işbirliğini optimize ettikleri mekanizmalar (ortak görevlendirmeler, ortak bütçeler v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800000"/>
                </a:solidFill>
                <a:latin typeface="Arial"/>
              </a:rPr>
              <a:t>Uygulama kapasit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işbirlikçi üstünlüğü sağlamak üzere yapılan müdahaleler için gerekli becerilerin ve desteklerin varl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800000"/>
                </a:solidFill>
                <a:latin typeface="Arial"/>
              </a:rPr>
              <a:t>Adanmışlık kapasitesi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işbirliğinin, ilgili toplum kesitlerinin ihtiyacını ve katılımını dikkate a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6F3-2448-4A4A-9EC3-83BCD131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7040" y="44280"/>
            <a:ext cx="737244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ĞRENME-İNOVASYON TARZLARI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(Jensen et al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24000" y="1538280"/>
            <a:ext cx="3960720" cy="3205080"/>
          </a:xfrm>
          <a:prstGeom prst="rect">
            <a:avLst/>
          </a:prstGeom>
          <a:solidFill>
            <a:srgbClr val="fefae8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ilim-Teknoloji-İnovasyon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(BT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çık bilimsel ve teknik bilginin üretimi ve kullanım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raştırarak öğrenme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eden-bilgisi edin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çık bilgi - küresel yayılı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788000" y="1538280"/>
            <a:ext cx="4105080" cy="3692520"/>
          </a:xfrm>
          <a:prstGeom prst="rect">
            <a:avLst/>
          </a:prstGeom>
          <a:solidFill>
            <a:srgbClr val="fff5cd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Yapma-Kullanma-Etkileşme  (Y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örtük deneyim bilgisinin üretimi  ve kullanım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arak, kullanarak, etkileşerek öğren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blem çözme-yeni yetki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asıl-bilgisi edinm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örtük bilgi - yerel yayılı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24000" y="5692680"/>
            <a:ext cx="8569080" cy="83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yasa önerisi:  inovasyon için bilgi yönetiminde  BTİ ve YKE öğrenme stratejileri birlikte ve tamamlayıcı olarak ele alınmalıd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384-431B-42BD-8437-545F84DF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4"/>
          <p:cNvGrpSpPr/>
          <p:nvPr/>
        </p:nvGrpSpPr>
        <p:grpSpPr>
          <a:xfrm>
            <a:off x="3214080" y="1181160"/>
            <a:ext cx="2683440" cy="357480"/>
            <a:chOff x="3214080" y="1181160"/>
            <a:chExt cx="2683440" cy="357480"/>
          </a:xfrm>
        </p:grpSpPr>
        <p:cxnSp>
          <p:nvCxnSpPr>
            <p:cNvPr id="255" name="Straight Arrow Connector 7"/>
            <p:cNvCxnSpPr/>
            <p:nvPr/>
          </p:nvCxnSpPr>
          <p:spPr>
            <a:xfrm flipH="1">
              <a:off x="3214080" y="1181160"/>
              <a:ext cx="572040" cy="3578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56" name="Straight Arrow Connector 9"/>
            <p:cNvCxnSpPr/>
            <p:nvPr/>
          </p:nvCxnSpPr>
          <p:spPr>
            <a:xfrm>
              <a:off x="5397120" y="1181160"/>
              <a:ext cx="500760" cy="3578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257" name="Straight Connector 13"/>
            <p:cNvSpPr/>
            <p:nvPr/>
          </p:nvSpPr>
          <p:spPr>
            <a:xfrm>
              <a:off x="3771720" y="1185840"/>
              <a:ext cx="1620720" cy="14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İLGİ TÜRLER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654120" y="714240"/>
            <a:ext cx="7775640" cy="3207600"/>
            <a:chOff x="654120" y="714240"/>
            <a:chExt cx="7775640" cy="3207600"/>
          </a:xfrm>
        </p:grpSpPr>
        <p:sp>
          <p:nvSpPr>
            <p:cNvPr id="260" name="Text Box 3"/>
            <p:cNvSpPr/>
            <p:nvPr/>
          </p:nvSpPr>
          <p:spPr>
            <a:xfrm>
              <a:off x="654120" y="1866960"/>
              <a:ext cx="2089080" cy="764640"/>
            </a:xfrm>
            <a:prstGeom prst="rect">
              <a:avLst/>
            </a:prstGeom>
            <a:solidFill>
              <a:srgbClr val="ffdb43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örtük bilgi </a:t>
              </a: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(implici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"/>
            <p:cNvSpPr/>
            <p:nvPr/>
          </p:nvSpPr>
          <p:spPr>
            <a:xfrm>
              <a:off x="6270840" y="1857240"/>
              <a:ext cx="2158920" cy="764640"/>
            </a:xfrm>
            <a:prstGeom prst="rect">
              <a:avLst/>
            </a:prstGeom>
            <a:solidFill>
              <a:srgbClr val="bad5fc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açık bilgi </a:t>
              </a: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(explici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5"/>
            <p:cNvSpPr/>
            <p:nvPr/>
          </p:nvSpPr>
          <p:spPr>
            <a:xfrm>
              <a:off x="3246480" y="1290600"/>
              <a:ext cx="2521080" cy="2089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9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3438720" y="1928880"/>
              <a:ext cx="21333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aracı bilgisi </a:t>
              </a: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(complici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 rot="1357200">
              <a:off x="5190840" y="1526760"/>
              <a:ext cx="1441440" cy="341280"/>
            </a:xfrm>
            <a:custGeom>
              <a:avLst/>
              <a:gdLst>
                <a:gd name="textAreaLeft" fmla="*/ 252000 w 1441440"/>
                <a:gd name="textAreaRight" fmla="*/ 1045080 w 1441440"/>
                <a:gd name="textAreaTop" fmla="*/ 45720 h 341280"/>
                <a:gd name="textAreaBottom" fmla="*/ 29556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"/>
            <p:cNvSpPr/>
            <p:nvPr/>
          </p:nvSpPr>
          <p:spPr>
            <a:xfrm>
              <a:off x="3606840" y="714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ışsallaştı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"/>
            <p:cNvSpPr/>
            <p:nvPr/>
          </p:nvSpPr>
          <p:spPr>
            <a:xfrm>
              <a:off x="3751200" y="352296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çselleştir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0"/>
            <p:cNvSpPr/>
            <p:nvPr/>
          </p:nvSpPr>
          <p:spPr>
            <a:xfrm rot="20131200">
              <a:off x="2525400" y="1488600"/>
              <a:ext cx="1438200" cy="360360"/>
            </a:xfrm>
            <a:custGeom>
              <a:avLst/>
              <a:gdLst>
                <a:gd name="textAreaLeft" fmla="*/ 251640 w 1438200"/>
                <a:gd name="textAreaRight" fmla="*/ 1042920 w 14382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1"/>
            <p:cNvSpPr/>
            <p:nvPr/>
          </p:nvSpPr>
          <p:spPr>
            <a:xfrm rot="9736800">
              <a:off x="5190480" y="2729880"/>
              <a:ext cx="1438200" cy="360360"/>
            </a:xfrm>
            <a:custGeom>
              <a:avLst/>
              <a:gdLst>
                <a:gd name="textAreaLeft" fmla="*/ 251640 w 1438200"/>
                <a:gd name="textAreaRight" fmla="*/ 1042920 w 14382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1818800">
              <a:off x="2382480" y="2658240"/>
              <a:ext cx="1438200" cy="360360"/>
            </a:xfrm>
            <a:custGeom>
              <a:avLst/>
              <a:gdLst>
                <a:gd name="textAreaLeft" fmla="*/ 251640 w 1438200"/>
                <a:gd name="textAreaRight" fmla="*/ 1042920 w 14382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3535200" y="3522960"/>
              <a:ext cx="18730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3535560" y="1145880"/>
              <a:ext cx="18716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15"/>
          <p:cNvSpPr/>
          <p:nvPr/>
        </p:nvSpPr>
        <p:spPr>
          <a:xfrm>
            <a:off x="714240" y="3929040"/>
            <a:ext cx="77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800000"/>
                </a:solidFill>
                <a:latin typeface="Arial"/>
              </a:rPr>
              <a:t>Aracı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:  bilgi ve talep sahiplerinin bilgi tabanlarına yakınlık,  hibrid  beceriler ve diller                                                                                                      Örnek:  buluş (örtük bilgi)  </a:t>
            </a:r>
            <a:r>
              <a:rPr b="1" lang="tr-TR" sz="2000" spc="-1" strike="noStrike">
                <a:solidFill>
                  <a:srgbClr val="c00000"/>
                </a:solidFill>
                <a:latin typeface="Arial"/>
              </a:rPr>
              <a:t>&gt;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tercüme  </a:t>
            </a:r>
            <a:r>
              <a:rPr b="1" lang="tr-TR" sz="2000" spc="-1" strike="noStrike">
                <a:solidFill>
                  <a:srgbClr val="c00000"/>
                </a:solidFill>
                <a:latin typeface="Arial"/>
              </a:rPr>
              <a:t>&gt;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ticari uygulama (açık bil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468360" y="5248440"/>
            <a:ext cx="8246880" cy="1313640"/>
          </a:xfrm>
          <a:prstGeom prst="rect">
            <a:avLst/>
          </a:prstGeom>
          <a:solidFill>
            <a:srgbClr val="ffed9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iyasa öneri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.  bilgi yoğun servislerin (KIS), üniversiteden doğan firmaların aracı bilgi değeri yüksek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i. üniversite-sanayi işbirliği modellerinde aracı bilgisi aranmalı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16"/>
          <p:cNvSpPr/>
          <p:nvPr/>
        </p:nvSpPr>
        <p:spPr>
          <a:xfrm>
            <a:off x="8143920" y="6245280"/>
            <a:ext cx="542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F3D7-83BD-4DE1-B734-B206E0B5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NİVERSİTE-SANAYİ BİLGİ ARACI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641520" y="843120"/>
            <a:ext cx="7788240" cy="5676120"/>
            <a:chOff x="641520" y="843120"/>
            <a:chExt cx="7788240" cy="5676120"/>
          </a:xfrm>
        </p:grpSpPr>
        <p:sp>
          <p:nvSpPr>
            <p:cNvPr id="277" name="TextBox 4"/>
            <p:cNvSpPr/>
            <p:nvPr/>
          </p:nvSpPr>
          <p:spPr>
            <a:xfrm>
              <a:off x="1071000" y="1342080"/>
              <a:ext cx="7358760" cy="96228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Arial"/>
                </a:rPr>
                <a:t>Genel maksat aracı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:  değişik bilgi türlerini üreten ve yayan aracı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ör. üniversite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5"/>
            <p:cNvSpPr/>
            <p:nvPr/>
          </p:nvSpPr>
          <p:spPr>
            <a:xfrm>
              <a:off x="1071000" y="2629440"/>
              <a:ext cx="7358760" cy="125172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Arial"/>
                </a:rPr>
                <a:t>Uzmanlaşmış aracı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:  bilgiyi arayan, açık hale getirilmesine yardımcı olan (patent vb.), ticari kesime bilgi transferi  yapan  aracı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ör. teknoloji transfer ofisi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6"/>
            <p:cNvSpPr/>
            <p:nvPr/>
          </p:nvSpPr>
          <p:spPr>
            <a:xfrm>
              <a:off x="1071000" y="4183920"/>
              <a:ext cx="7358760" cy="96228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Arial"/>
                </a:rPr>
                <a:t>Mali aracı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:  yönetsel nasıl-bilgisi, iş bağlantısı, sorun giderme, risk değerlendirmesi gibi örtük bilgileri beraberinde getiren destek  aracısı                                            (ör. risk sermayedarı,  iş meleği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7"/>
            <p:cNvSpPr/>
            <p:nvPr/>
          </p:nvSpPr>
          <p:spPr>
            <a:xfrm>
              <a:off x="1071000" y="5556960"/>
              <a:ext cx="7358760" cy="96228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Arial"/>
                </a:rPr>
                <a:t>Kurumsal aracı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:  araştırmacılarla firmalar arasındaki etkileşmeyi kolaylamak amacıyla,  bilgi transferi ve ilgili servisler için teşvik veren aracı                                                         (ör. kamu ajansları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9"/>
            <p:cNvSpPr/>
            <p:nvPr/>
          </p:nvSpPr>
          <p:spPr>
            <a:xfrm flipH="1">
              <a:off x="641520" y="843120"/>
              <a:ext cx="1440" cy="521496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12"/>
            <p:cNvSpPr/>
            <p:nvPr/>
          </p:nvSpPr>
          <p:spPr>
            <a:xfrm>
              <a:off x="642960" y="1698480"/>
              <a:ext cx="428400" cy="144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14"/>
            <p:cNvSpPr/>
            <p:nvPr/>
          </p:nvSpPr>
          <p:spPr>
            <a:xfrm>
              <a:off x="642960" y="3125880"/>
              <a:ext cx="428400" cy="144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15"/>
            <p:cNvSpPr/>
            <p:nvPr/>
          </p:nvSpPr>
          <p:spPr>
            <a:xfrm>
              <a:off x="642960" y="4697280"/>
              <a:ext cx="428400" cy="144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16"/>
            <p:cNvSpPr/>
            <p:nvPr/>
          </p:nvSpPr>
          <p:spPr>
            <a:xfrm>
              <a:off x="642960" y="6054840"/>
              <a:ext cx="428400" cy="144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Slide Number Placeholder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4B76-F0EB-4AF1-AC95-15F3378A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3840" y="2999880"/>
            <a:ext cx="871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LİYET ORTAMINDAN DEĞİŞİK AKTÖRL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YNAKLARINI ve YETENEKLERİNİ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İREYLER ve KURULUŞLAR ARASI İLİŞKİ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CILIĞI ile PAYLAŞTIK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İŞBİRLİKLERİNE GİDE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71680" y="1085760"/>
            <a:ext cx="7858080" cy="1068840"/>
          </a:xfrm>
          <a:prstGeom prst="rect">
            <a:avLst/>
          </a:prstGeom>
          <a:solidFill>
            <a:srgbClr val="b7db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İNOVATÖR-GİRİŞİMCİ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İNOVASYONU TEK BAŞINA YAPMAZ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C621-0563-4549-B01B-D22612D7D0C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71680" y="214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OVATİF ÜÇLÜ SA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547640" y="5631120"/>
            <a:ext cx="3311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çlü ağyapı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ibrid organizasyon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5651640" y="1628640"/>
            <a:ext cx="2376360" cy="4680000"/>
            <a:chOff x="5651640" y="1628640"/>
            <a:chExt cx="2376360" cy="4680000"/>
          </a:xfrm>
        </p:grpSpPr>
        <p:sp>
          <p:nvSpPr>
            <p:cNvPr id="290" name="Freeform 28"/>
            <p:cNvSpPr/>
            <p:nvPr/>
          </p:nvSpPr>
          <p:spPr>
            <a:xfrm>
              <a:off x="5724360" y="1844280"/>
              <a:ext cx="2089080" cy="4248360"/>
            </a:xfrm>
            <a:prstGeom prst="pie">
              <a:avLst/>
            </a:prstGeom>
            <a:noFill/>
            <a:ln w="101520">
              <a:solidFill>
                <a:srgbClr val="0085a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5796000" y="1628640"/>
              <a:ext cx="1368360" cy="4680000"/>
            </a:xfrm>
            <a:prstGeom prst="pie">
              <a:avLst/>
            </a:prstGeom>
            <a:noFill/>
            <a:ln w="101520">
              <a:solidFill>
                <a:srgbClr val="e2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651640" y="1773000"/>
              <a:ext cx="2376360" cy="4464360"/>
            </a:xfrm>
            <a:prstGeom prst="pie">
              <a:avLst/>
            </a:prstGeom>
            <a:noFill/>
            <a:ln w="101520">
              <a:solidFill>
                <a:srgbClr val="00c4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5865840" y="2117520"/>
              <a:ext cx="1946160" cy="303120"/>
            </a:xfrm>
            <a:prstGeom prst="ellipse">
              <a:avLst/>
            </a:prstGeom>
            <a:noFill/>
            <a:ln w="38160">
              <a:solidFill>
                <a:srgbClr val="729a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5891040" y="1989000"/>
              <a:ext cx="1201680" cy="0"/>
            </a:xfrm>
            <a:prstGeom prst="line">
              <a:avLst/>
            </a:prstGeom>
            <a:ln w="25560">
              <a:solidFill>
                <a:srgbClr val="cc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16680" y="2707920"/>
              <a:ext cx="1579680" cy="0"/>
            </a:xfrm>
            <a:prstGeom prst="line">
              <a:avLst/>
            </a:prstGeom>
            <a:ln w="34920">
              <a:solidFill>
                <a:srgbClr val="00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4"/>
            <p:cNvSpPr/>
            <p:nvPr/>
          </p:nvSpPr>
          <p:spPr>
            <a:xfrm>
              <a:off x="6227640" y="2923920"/>
              <a:ext cx="1079280" cy="217440"/>
            </a:xfrm>
            <a:prstGeom prst="ellipse">
              <a:avLst/>
            </a:prstGeom>
            <a:noFill/>
            <a:ln w="38160">
              <a:solidFill>
                <a:srgbClr val="8c19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5"/>
            <p:cNvSpPr/>
            <p:nvPr/>
          </p:nvSpPr>
          <p:spPr>
            <a:xfrm>
              <a:off x="5796000" y="4581360"/>
              <a:ext cx="1554120" cy="287280"/>
            </a:xfrm>
            <a:prstGeom prst="ellipse">
              <a:avLst/>
            </a:prstGeom>
            <a:noFill/>
            <a:ln w="34920">
              <a:solidFill>
                <a:srgbClr val="ff33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911920" y="4059000"/>
              <a:ext cx="1036440" cy="17280"/>
            </a:xfrm>
            <a:prstGeom prst="line">
              <a:avLst/>
            </a:prstGeom>
            <a:ln cap="rnd" w="38160">
              <a:solidFill>
                <a:srgbClr val="bc7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6029280" y="3716280"/>
              <a:ext cx="630000" cy="174600"/>
            </a:xfrm>
            <a:prstGeom prst="ellipse">
              <a:avLst/>
            </a:prstGeom>
            <a:noFill/>
            <a:ln w="38160">
              <a:solidFill>
                <a:srgbClr val="8a8a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>
              <a:off x="6372360" y="4365720"/>
              <a:ext cx="720720" cy="0"/>
            </a:xfrm>
            <a:prstGeom prst="line">
              <a:avLst/>
            </a:prstGeom>
            <a:ln w="38160">
              <a:solidFill>
                <a:srgbClr val="cc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39"/>
            <p:cNvSpPr/>
            <p:nvPr/>
          </p:nvSpPr>
          <p:spPr>
            <a:xfrm>
              <a:off x="5867280" y="5373720"/>
              <a:ext cx="1800360" cy="360360"/>
            </a:xfrm>
            <a:prstGeom prst="ellipse">
              <a:avLst/>
            </a:prstGeom>
            <a:noFill/>
            <a:ln cap="rnd" w="50760">
              <a:solidFill>
                <a:srgbClr val="ff99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0"/>
            <p:cNvSpPr/>
            <p:nvPr/>
          </p:nvSpPr>
          <p:spPr>
            <a:xfrm>
              <a:off x="6084720" y="5950080"/>
              <a:ext cx="503280" cy="0"/>
            </a:xfrm>
            <a:prstGeom prst="line">
              <a:avLst/>
            </a:prstGeom>
            <a:ln cap="rnd" w="50760">
              <a:solidFill>
                <a:srgbClr val="ccffff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1"/>
            <p:cNvSpPr/>
            <p:nvPr/>
          </p:nvSpPr>
          <p:spPr>
            <a:xfrm>
              <a:off x="6012000" y="5157720"/>
              <a:ext cx="1584360" cy="0"/>
            </a:xfrm>
            <a:prstGeom prst="line">
              <a:avLst/>
            </a:prstGeom>
            <a:ln w="31680">
              <a:solidFill>
                <a:srgbClr val="cc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2"/>
            <p:cNvSpPr/>
            <p:nvPr/>
          </p:nvSpPr>
          <p:spPr>
            <a:xfrm>
              <a:off x="6156360" y="3500280"/>
              <a:ext cx="792000" cy="0"/>
            </a:xfrm>
            <a:prstGeom prst="line">
              <a:avLst/>
            </a:prstGeom>
            <a:ln cap="rnd" w="50760">
              <a:solidFill>
                <a:srgbClr val="00fffe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Line 43"/>
          <p:cNvSpPr/>
          <p:nvPr/>
        </p:nvSpPr>
        <p:spPr>
          <a:xfrm flipV="1">
            <a:off x="2987640" y="4724280"/>
            <a:ext cx="2664000" cy="720720"/>
          </a:xfrm>
          <a:prstGeom prst="line">
            <a:avLst/>
          </a:prstGeom>
          <a:ln w="38160">
            <a:solidFill>
              <a:srgbClr val="ffff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3"/>
          <p:cNvSpPr/>
          <p:nvPr/>
        </p:nvSpPr>
        <p:spPr>
          <a:xfrm flipV="1">
            <a:off x="3071880" y="4786200"/>
            <a:ext cx="2714400" cy="649440"/>
          </a:xfrm>
          <a:prstGeom prst="line">
            <a:avLst/>
          </a:prstGeom>
          <a:ln w="28440">
            <a:solidFill>
              <a:srgbClr val="306f7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2AA8-963A-4FA4-B0AC-38A0DEE13C7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1"/>
          <p:cNvGrpSpPr/>
          <p:nvPr/>
        </p:nvGrpSpPr>
        <p:grpSpPr>
          <a:xfrm>
            <a:off x="479520" y="1336680"/>
            <a:ext cx="4597200" cy="2878200"/>
            <a:chOff x="479520" y="1336680"/>
            <a:chExt cx="4597200" cy="2878200"/>
          </a:xfrm>
        </p:grpSpPr>
        <p:grpSp>
          <p:nvGrpSpPr>
            <p:cNvPr id="309" name="Group 26"/>
            <p:cNvGrpSpPr/>
            <p:nvPr/>
          </p:nvGrpSpPr>
          <p:grpSpPr>
            <a:xfrm>
              <a:off x="479520" y="1336680"/>
              <a:ext cx="4597200" cy="2878200"/>
              <a:chOff x="479520" y="1336680"/>
              <a:chExt cx="4597200" cy="2878200"/>
            </a:xfrm>
          </p:grpSpPr>
          <p:sp>
            <p:nvSpPr>
              <p:cNvPr id="310" name="Oval 3"/>
              <p:cNvSpPr/>
              <p:nvPr/>
            </p:nvSpPr>
            <p:spPr>
              <a:xfrm>
                <a:off x="1428840" y="1336680"/>
                <a:ext cx="2448000" cy="1859040"/>
              </a:xfrm>
              <a:prstGeom prst="ellipse">
                <a:avLst/>
              </a:prstGeom>
              <a:solidFill>
                <a:srgbClr val="f28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Devle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4"/>
              <p:cNvSpPr/>
              <p:nvPr/>
            </p:nvSpPr>
            <p:spPr>
              <a:xfrm>
                <a:off x="2476440" y="2340000"/>
                <a:ext cx="2600280" cy="1803600"/>
              </a:xfrm>
              <a:prstGeom prst="ellipse">
                <a:avLst/>
              </a:prstGeom>
              <a:solidFill>
                <a:srgbClr val="00db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Üniversi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5"/>
              <p:cNvSpPr/>
              <p:nvPr/>
            </p:nvSpPr>
            <p:spPr>
              <a:xfrm>
                <a:off x="479520" y="2411280"/>
                <a:ext cx="2520720" cy="1803600"/>
              </a:xfrm>
              <a:prstGeom prst="ellipse">
                <a:avLst/>
              </a:prstGeom>
              <a:solidFill>
                <a:srgbClr val="00d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Sanay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1"/>
            <p:cNvGrpSpPr/>
            <p:nvPr/>
          </p:nvGrpSpPr>
          <p:grpSpPr>
            <a:xfrm>
              <a:off x="2388240" y="2705040"/>
              <a:ext cx="714240" cy="537480"/>
              <a:chOff x="2388240" y="2705040"/>
              <a:chExt cx="714240" cy="537480"/>
            </a:xfrm>
          </p:grpSpPr>
          <p:sp>
            <p:nvSpPr>
              <p:cNvPr id="314" name="Isosceles Triangle 29"/>
              <p:cNvSpPr/>
              <p:nvPr/>
            </p:nvSpPr>
            <p:spPr>
              <a:xfrm>
                <a:off x="2436480" y="2705040"/>
                <a:ext cx="571320" cy="5000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30"/>
              <p:cNvSpPr/>
              <p:nvPr/>
            </p:nvSpPr>
            <p:spPr>
              <a:xfrm>
                <a:off x="2388240" y="2705040"/>
                <a:ext cx="71424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..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...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4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............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Line 7"/>
          <p:cNvSpPr/>
          <p:nvPr/>
        </p:nvSpPr>
        <p:spPr>
          <a:xfrm flipH="1" flipV="1">
            <a:off x="2714760" y="2999880"/>
            <a:ext cx="357120" cy="2435400"/>
          </a:xfrm>
          <a:prstGeom prst="line">
            <a:avLst/>
          </a:prstGeom>
          <a:ln w="28440">
            <a:solidFill>
              <a:srgbClr val="306f7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NEDEN ÜÇLÜ SARMAL </a:t>
            </a:r>
            <a:r>
              <a:rPr b="1" lang="tr-TR" sz="3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3840" y="1276200"/>
            <a:ext cx="84643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çlü sarmal, bilginin yarara dönüşmesi aşamalarınd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lişkileri düzenleyip yöneten bir inovasyon ağyapısı çeşidi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c00000"/>
                </a:solidFill>
                <a:latin typeface="Arial"/>
              </a:rPr>
              <a:t>Devlet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   ilgili tüm tarafları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raştırma faaliyetinin gündemin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öz sahibi olmalarını sağl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c00000"/>
                </a:solidFill>
                <a:latin typeface="Arial"/>
              </a:rPr>
              <a:t>Sanay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akademik araştırmayı yönlendirecek talebe 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estekleyecek kaynaklara sa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c00000"/>
                </a:solidFill>
                <a:latin typeface="Arial"/>
              </a:rPr>
              <a:t>Üniversit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, beceri ve insan kayna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27160" y="5656320"/>
            <a:ext cx="8643960" cy="696600"/>
          </a:xfrm>
          <a:prstGeom prst="rect">
            <a:avLst/>
          </a:prstGeom>
          <a:solidFill>
            <a:srgbClr val="ffdf9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Yoğunlaşan baskı:  “Araştırma çıktılarının ticari ve toplumsal yarara dönüştürülmesi sürecinde , üniversite doğrudan rol almalıdır.  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049-3E9C-4D8B-81C4-976E2F1EC5C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rnek:  Tedarik zincirinde öğrenme ve inovasyon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324000" y="1052640"/>
            <a:ext cx="8424720" cy="4987080"/>
            <a:chOff x="324000" y="1052640"/>
            <a:chExt cx="8424720" cy="4987080"/>
          </a:xfrm>
        </p:grpSpPr>
        <p:sp>
          <p:nvSpPr>
            <p:cNvPr id="323" name="Text Box 4"/>
            <p:cNvSpPr/>
            <p:nvPr/>
          </p:nvSpPr>
          <p:spPr>
            <a:xfrm>
              <a:off x="611280" y="1052640"/>
              <a:ext cx="2736720" cy="764280"/>
            </a:xfrm>
            <a:prstGeom prst="rect">
              <a:avLst/>
            </a:prstGeom>
            <a:solidFill>
              <a:srgbClr val="fde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ekrarlanan etkileşmel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"/>
            <p:cNvSpPr/>
            <p:nvPr/>
          </p:nvSpPr>
          <p:spPr>
            <a:xfrm>
              <a:off x="4356000" y="1052640"/>
              <a:ext cx="4103640" cy="764280"/>
            </a:xfrm>
            <a:prstGeom prst="rect">
              <a:avLst/>
            </a:prstGeom>
            <a:solidFill>
              <a:srgbClr val="fae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r bilgi alanında iletişim kolaylığı,   örtük bilgi transfe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3132360" y="4572360"/>
              <a:ext cx="2879640" cy="703800"/>
            </a:xfrm>
            <a:prstGeom prst="rect">
              <a:avLst/>
            </a:prstGeom>
            <a:solidFill>
              <a:srgbClr val="e4e4e4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knoloji yörüngelerinde birlikte hareket kolaylığ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24000" y="5077440"/>
              <a:ext cx="2303280" cy="962280"/>
            </a:xfrm>
            <a:prstGeom prst="rect">
              <a:avLst/>
            </a:prstGeom>
            <a:solidFill>
              <a:srgbClr val="e1f0ff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900" spc="-1" strike="noStrike">
                  <a:solidFill>
                    <a:srgbClr val="000000"/>
                  </a:solidFill>
                  <a:latin typeface="Arial"/>
                </a:rPr>
                <a:t>mevcut ilişkilerden yararlanma (exploitatIon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6515280" y="5077440"/>
              <a:ext cx="2233440" cy="962280"/>
            </a:xfrm>
            <a:prstGeom prst="rect">
              <a:avLst/>
            </a:prstGeom>
            <a:solidFill>
              <a:srgbClr val="e1f0ff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900" spc="-1" strike="noStrike">
                  <a:solidFill>
                    <a:srgbClr val="000000"/>
                  </a:solidFill>
                  <a:latin typeface="Arial"/>
                </a:rPr>
                <a:t>yeni ilişkiler geliştirme (exploratIon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 rot="16200000">
              <a:off x="3514680" y="1173240"/>
              <a:ext cx="720720" cy="504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4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4643640" y="1949400"/>
              <a:ext cx="86328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4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"/>
            <p:cNvSpPr/>
            <p:nvPr/>
          </p:nvSpPr>
          <p:spPr>
            <a:xfrm>
              <a:off x="4184640" y="3831120"/>
              <a:ext cx="720720" cy="598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4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2"/>
            <p:cNvSpPr/>
            <p:nvPr/>
          </p:nvSpPr>
          <p:spPr>
            <a:xfrm>
              <a:off x="2700360" y="2492640"/>
              <a:ext cx="3647880" cy="429120"/>
            </a:xfrm>
            <a:prstGeom prst="rect">
              <a:avLst/>
            </a:prstGeom>
            <a:solidFill>
              <a:srgbClr val="ffc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rafların örtüşen bilgi alanlar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2698920" y="3243600"/>
              <a:ext cx="3659040" cy="398880"/>
            </a:xfrm>
            <a:prstGeom prst="rect">
              <a:avLst/>
            </a:prstGeom>
            <a:solidFill>
              <a:srgbClr val="ffc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arşılıklı soğurucu kapas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4446720" y="2902320"/>
              <a:ext cx="183960" cy="393480"/>
            </a:xfrm>
            <a:prstGeom prst="rect">
              <a:avLst/>
            </a:prstGeom>
            <a:solidFill>
              <a:srgbClr val="ffc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627280" y="5437800"/>
              <a:ext cx="50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6012000" y="5364720"/>
              <a:ext cx="50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32B-4165-4A69-9392-AF373F65CB1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3"/>
          <p:cNvGrpSpPr/>
          <p:nvPr/>
        </p:nvGrpSpPr>
        <p:grpSpPr>
          <a:xfrm>
            <a:off x="2666880" y="1376280"/>
            <a:ext cx="6324840" cy="5481360"/>
            <a:chOff x="2666880" y="1376280"/>
            <a:chExt cx="6324840" cy="5481360"/>
          </a:xfrm>
        </p:grpSpPr>
        <p:pic>
          <p:nvPicPr>
            <p:cNvPr id="338" name="Picture 4" descr=""/>
            <p:cNvPicPr/>
            <p:nvPr/>
          </p:nvPicPr>
          <p:blipFill>
            <a:blip r:embed="rId1"/>
            <a:stretch/>
          </p:blipFill>
          <p:spPr>
            <a:xfrm>
              <a:off x="2666880" y="1376280"/>
              <a:ext cx="6324840" cy="54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5"/>
            <p:cNvSpPr/>
            <p:nvPr/>
          </p:nvSpPr>
          <p:spPr>
            <a:xfrm>
              <a:off x="5105520" y="4424040"/>
              <a:ext cx="12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</a:rPr>
                <a:t>odak fIr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6"/>
          <p:cNvGrpSpPr/>
          <p:nvPr/>
        </p:nvGrpSpPr>
        <p:grpSpPr>
          <a:xfrm>
            <a:off x="152280" y="4824360"/>
            <a:ext cx="3276720" cy="1750680"/>
            <a:chOff x="152280" y="4824360"/>
            <a:chExt cx="3276720" cy="1750680"/>
          </a:xfrm>
        </p:grpSpPr>
        <p:pic>
          <p:nvPicPr>
            <p:cNvPr id="341" name="Picture 7" descr=""/>
            <p:cNvPicPr/>
            <p:nvPr/>
          </p:nvPicPr>
          <p:blipFill>
            <a:blip r:embed="rId2"/>
            <a:stretch/>
          </p:blipFill>
          <p:spPr>
            <a:xfrm>
              <a:off x="152280" y="4824360"/>
              <a:ext cx="720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8"/>
            <p:cNvSpPr/>
            <p:nvPr/>
          </p:nvSpPr>
          <p:spPr>
            <a:xfrm>
              <a:off x="863640" y="4843440"/>
              <a:ext cx="2565360" cy="17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öğrenmIş tedarIkç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öğrenmemIş tedarIkç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sorgulanmamış tedarIkç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tedarIkçI-tedarIkçI IlIşkI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</a:rPr>
                <a:t>tedarIkçI-odak fIrma IlIşkI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9"/>
          <p:cNvSpPr/>
          <p:nvPr/>
        </p:nvSpPr>
        <p:spPr>
          <a:xfrm>
            <a:off x="3048120" y="5000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(Hakansson et al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rnek:  Tedarik zincirinde öğrenme ve inovasyon 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B71-8645-4A09-932F-869AEED0B96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357120"/>
            <a:ext cx="82864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OVASYON FAALİYETİNİ KOLAYLAYAN TEMEL YAPI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1044720" y="1989000"/>
            <a:ext cx="7127280" cy="3921120"/>
            <a:chOff x="1044720" y="1989000"/>
            <a:chExt cx="7127280" cy="3921120"/>
          </a:xfrm>
        </p:grpSpPr>
        <p:sp>
          <p:nvSpPr>
            <p:cNvPr id="55" name="Text Box 4"/>
            <p:cNvSpPr/>
            <p:nvPr/>
          </p:nvSpPr>
          <p:spPr>
            <a:xfrm>
              <a:off x="1044720" y="1989000"/>
              <a:ext cx="2447640" cy="825480"/>
            </a:xfrm>
            <a:prstGeom prst="rect">
              <a:avLst/>
            </a:prstGeom>
            <a:solidFill>
              <a:srgbClr val="f3f66e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inovasyon işbirliğ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3348000" y="3524040"/>
              <a:ext cx="2447280" cy="825480"/>
            </a:xfrm>
            <a:prstGeom prst="rect">
              <a:avLst/>
            </a:prstGeom>
            <a:solidFill>
              <a:srgbClr val="ffc69f"/>
            </a:solidFill>
            <a:ln w="1908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inovasyon ağyapıs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5797440" y="5084640"/>
              <a:ext cx="2374560" cy="825480"/>
            </a:xfrm>
            <a:prstGeom prst="rect">
              <a:avLst/>
            </a:prstGeom>
            <a:solidFill>
              <a:srgbClr val="caff33"/>
            </a:solidFill>
            <a:ln w="190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000000"/>
                  </a:solidFill>
                  <a:latin typeface="Arial"/>
                </a:rPr>
                <a:t>inovasyon siste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 rot="19633800">
              <a:off x="2555280" y="3050640"/>
              <a:ext cx="288720" cy="108108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89000 h 1081080"/>
                <a:gd name="textAreaBottom" fmla="*/ 78372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0"/>
            <p:cNvSpPr/>
            <p:nvPr/>
          </p:nvSpPr>
          <p:spPr>
            <a:xfrm rot="19633800">
              <a:off x="5003280" y="4581000"/>
              <a:ext cx="288360" cy="1081080"/>
            </a:xfrm>
            <a:custGeom>
              <a:avLst/>
              <a:gdLst>
                <a:gd name="textAreaLeft" fmla="*/ 38520 w 288360"/>
                <a:gd name="textAreaRight" fmla="*/ 249840 w 288360"/>
                <a:gd name="textAreaTop" fmla="*/ 189000 h 1081080"/>
                <a:gd name="textAreaBottom" fmla="*/ 78372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0F6-AA0F-4738-BB85-28D446947E9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7129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ÖRESEL  İNOVASYON  YAPI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6"/>
          <p:cNvGrpSpPr/>
          <p:nvPr/>
        </p:nvGrpSpPr>
        <p:grpSpPr>
          <a:xfrm>
            <a:off x="539640" y="5337000"/>
            <a:ext cx="8209080" cy="1262880"/>
            <a:chOff x="539640" y="5337000"/>
            <a:chExt cx="8209080" cy="1262880"/>
          </a:xfrm>
        </p:grpSpPr>
        <p:sp>
          <p:nvSpPr>
            <p:cNvPr id="63" name="Rectangle 27"/>
            <p:cNvSpPr/>
            <p:nvPr/>
          </p:nvSpPr>
          <p:spPr>
            <a:xfrm>
              <a:off x="566640" y="5896080"/>
              <a:ext cx="796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pasif                                 işbirlikçi                                 ağyapılar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Arial"/>
                </a:rPr>
                <a:t>etkileşmeler                          ilişkiler                                   sistem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39640" y="5746320"/>
              <a:ext cx="8209080" cy="4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2"/>
            <p:cNvSpPr/>
            <p:nvPr/>
          </p:nvSpPr>
          <p:spPr>
            <a:xfrm>
              <a:off x="6372360" y="5337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rtan rekabetçili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2"/>
          <p:cNvSpPr/>
          <p:nvPr/>
        </p:nvSpPr>
        <p:spPr>
          <a:xfrm>
            <a:off x="108000" y="48434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c00000"/>
                </a:solidFill>
                <a:latin typeface="Arial"/>
              </a:rPr>
              <a:t>İnovatiflik Göstergesi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</a:rPr>
              <a:t>:  Ağyapılaşma ve Sistemleş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7058160" y="3933720"/>
            <a:ext cx="14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979640" y="765000"/>
            <a:ext cx="1800000" cy="1295280"/>
            <a:chOff x="1979640" y="765000"/>
            <a:chExt cx="1800000" cy="1295280"/>
          </a:xfrm>
        </p:grpSpPr>
        <p:sp>
          <p:nvSpPr>
            <p:cNvPr id="69" name="Oval 11"/>
            <p:cNvSpPr/>
            <p:nvPr/>
          </p:nvSpPr>
          <p:spPr>
            <a:xfrm>
              <a:off x="1979640" y="765000"/>
              <a:ext cx="1800000" cy="1295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2070720" y="1069200"/>
              <a:ext cx="152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nayi havzas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2197080" y="1989000"/>
            <a:ext cx="1871280" cy="1296720"/>
            <a:chOff x="2197080" y="1989000"/>
            <a:chExt cx="1871280" cy="1296720"/>
          </a:xfrm>
        </p:grpSpPr>
        <p:sp>
          <p:nvSpPr>
            <p:cNvPr id="72" name="Oval 14"/>
            <p:cNvSpPr/>
            <p:nvPr/>
          </p:nvSpPr>
          <p:spPr>
            <a:xfrm>
              <a:off x="2197080" y="1989000"/>
              <a:ext cx="1871280" cy="12967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2230200" y="2293200"/>
              <a:ext cx="174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knoloji havzas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3780000" y="1917720"/>
            <a:ext cx="1802880" cy="1296720"/>
            <a:chOff x="3780000" y="1917720"/>
            <a:chExt cx="1802880" cy="1296720"/>
          </a:xfrm>
        </p:grpSpPr>
        <p:sp>
          <p:nvSpPr>
            <p:cNvPr id="75" name="Oval 20"/>
            <p:cNvSpPr/>
            <p:nvPr/>
          </p:nvSpPr>
          <p:spPr>
            <a:xfrm>
              <a:off x="3780000" y="1917720"/>
              <a:ext cx="1802880" cy="12967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960360" y="2223720"/>
              <a:ext cx="153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öğrenme bölg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7"/>
          <p:cNvGrpSpPr/>
          <p:nvPr/>
        </p:nvGrpSpPr>
        <p:grpSpPr>
          <a:xfrm>
            <a:off x="4140360" y="2997360"/>
            <a:ext cx="1799640" cy="1223280"/>
            <a:chOff x="4140360" y="2997360"/>
            <a:chExt cx="1799640" cy="1223280"/>
          </a:xfrm>
        </p:grpSpPr>
        <p:sp>
          <p:nvSpPr>
            <p:cNvPr id="78" name="Oval 38"/>
            <p:cNvSpPr/>
            <p:nvPr/>
          </p:nvSpPr>
          <p:spPr>
            <a:xfrm>
              <a:off x="4140360" y="2997360"/>
              <a:ext cx="1799640" cy="1223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9"/>
            <p:cNvSpPr/>
            <p:nvPr/>
          </p:nvSpPr>
          <p:spPr>
            <a:xfrm>
              <a:off x="4268880" y="3302640"/>
              <a:ext cx="160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"/>
                </a:rPr>
                <a:t>inovatif mily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7"/>
          <p:cNvGrpSpPr/>
          <p:nvPr/>
        </p:nvGrpSpPr>
        <p:grpSpPr>
          <a:xfrm>
            <a:off x="5724360" y="2708280"/>
            <a:ext cx="1800000" cy="1224000"/>
            <a:chOff x="5724360" y="2708280"/>
            <a:chExt cx="1800000" cy="1224000"/>
          </a:xfrm>
        </p:grpSpPr>
        <p:sp>
          <p:nvSpPr>
            <p:cNvPr id="81" name="Oval 48"/>
            <p:cNvSpPr/>
            <p:nvPr/>
          </p:nvSpPr>
          <p:spPr>
            <a:xfrm>
              <a:off x="5724360" y="2708280"/>
              <a:ext cx="1800000" cy="122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9"/>
            <p:cNvSpPr/>
            <p:nvPr/>
          </p:nvSpPr>
          <p:spPr>
            <a:xfrm>
              <a:off x="5838840" y="2995560"/>
              <a:ext cx="152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"/>
                </a:rPr>
                <a:t>innovatif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"/>
                </a:rPr>
                <a:t>kü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1"/>
          <p:cNvSpPr/>
          <p:nvPr/>
        </p:nvSpPr>
        <p:spPr>
          <a:xfrm>
            <a:off x="179280" y="765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nı sanayiden küçük firmaların yığınlaşmas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2"/>
          <p:cNvSpPr/>
          <p:nvPr/>
        </p:nvSpPr>
        <p:spPr>
          <a:xfrm>
            <a:off x="324000" y="220500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knoloji-dinamik sanayilerde yeni ürün tabanlı teknolojik öğren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>
            <a:off x="6804000" y="3798720"/>
            <a:ext cx="21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gili kuruluş,ilişki ve sanayilerin yarattığı rekabetçi  yap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8E90-51AF-4BA3-9D22-21553C72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ĞRENME BÖLGES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341440" y="3430440"/>
            <a:ext cx="5399280" cy="12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arşılıklı bağımlılıklar ve ağyapı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ğitim ve öğrenme kurumlar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ölgesel öğrenme süreçleri ve ortak anlayı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486160" y="1000080"/>
            <a:ext cx="4114800" cy="2214720"/>
            <a:chOff x="2486160" y="1000080"/>
            <a:chExt cx="4114800" cy="2214720"/>
          </a:xfrm>
        </p:grpSpPr>
        <p:sp>
          <p:nvSpPr>
            <p:cNvPr id="90" name="Oval 42"/>
            <p:cNvSpPr/>
            <p:nvPr/>
          </p:nvSpPr>
          <p:spPr>
            <a:xfrm>
              <a:off x="2486160" y="1000080"/>
              <a:ext cx="4114800" cy="2214720"/>
            </a:xfrm>
            <a:prstGeom prst="ellipse">
              <a:avLst/>
            </a:prstGeom>
            <a:solidFill>
              <a:srgbClr val="377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4"/>
            <p:cNvSpPr/>
            <p:nvPr/>
          </p:nvSpPr>
          <p:spPr>
            <a:xfrm>
              <a:off x="2600280" y="1485720"/>
              <a:ext cx="38862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900" spc="-1" strike="noStrike">
                  <a:solidFill>
                    <a:srgbClr val="ffffff"/>
                  </a:solidFill>
                  <a:latin typeface="Arial"/>
                </a:rPr>
                <a:t>kuruluşlar arası ilişkiler ve yakınlıklarla desteklenen                         bilgi üretim ve paylaşım ortam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642960" y="5014800"/>
            <a:ext cx="7858080" cy="1629000"/>
          </a:xfrm>
          <a:prstGeom prst="rect">
            <a:avLst/>
          </a:prstGeom>
          <a:solidFill>
            <a:srgbClr val="fff0a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Öğrenme:  Yeni yetenek geliştir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Öğrenme bölgesi, bölgesel “öğrenme ve inovasyon” kurumlarının desteğiyle bölgesel ağyapılarda gerçekleşen öğrenme sonucu ortaya çık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7E9-0291-43AB-81B5-5286FEB1A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NOVATİF MİLYÖ </a:t>
            </a:r>
            <a:br>
              <a:rPr sz="2800"/>
            </a:b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ilikç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640" y="15796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relleşmenin ana etkenlerinden birisi  teknoloj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vasyondur.  İnovasyonun uygun koşullarını bulduğ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ovatif mily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öreye özgü bir üretim ve yönetim ilişki kümesinin, onu destekleyen sosyal organizasyon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aya yeni bilgi, yeni ürün ve yeni proses çıkarmak için paylaşılan çalışma kültürünü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kili hedefl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unduğu çevredir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18C-8D32-4245-B9A4-E09A5380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2143080"/>
            <a:ext cx="3600360" cy="3684600"/>
          </a:xfrm>
          <a:prstGeom prst="rect">
            <a:avLst/>
          </a:prstGeom>
          <a:solidFill>
            <a:srgbClr val="d6e4f2"/>
          </a:solidFill>
          <a:ln w="19080">
            <a:solidFill>
              <a:srgbClr val="ed5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avza / milyö / küme referans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kınlıklar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(coğrafi, teknolojik, sosyal, organizasyonel v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ışsal ekonomiler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(üçüncü taraflara olan dolaylı yarar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lgi sızma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075280" y="2133720"/>
            <a:ext cx="3497400" cy="2285640"/>
          </a:xfrm>
          <a:prstGeom prst="rect">
            <a:avLst/>
          </a:prstGeom>
          <a:solidFill>
            <a:srgbClr val="fff6d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firma / kuruluş referan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etenekler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(teknoloji, organizasyon, pazarlama, iletişim v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lgi transferl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H="1">
            <a:off x="2626920" y="1062000"/>
            <a:ext cx="863640" cy="1081080"/>
          </a:xfrm>
          <a:prstGeom prst="line">
            <a:avLst/>
          </a:prstGeom>
          <a:ln w="255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5362560" y="1062000"/>
            <a:ext cx="792000" cy="1104840"/>
          </a:xfrm>
          <a:prstGeom prst="line">
            <a:avLst/>
          </a:prstGeom>
          <a:ln w="255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1680" y="520560"/>
            <a:ext cx="8001000" cy="520560"/>
          </a:xfrm>
          <a:prstGeom prst="rect">
            <a:avLst/>
          </a:prstGeom>
          <a:noFill/>
          <a:ln w="25560">
            <a:solidFill>
              <a:srgbClr val="de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ğrenme - İnovasyon - İşbirliği Referans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580000" y="5291280"/>
            <a:ext cx="2951280" cy="923400"/>
          </a:xfrm>
          <a:prstGeom prst="rect">
            <a:avLst/>
          </a:prstGeom>
          <a:solidFill>
            <a:srgbClr val="f7f17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ğyapı, 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lişkiler, akımla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5724360" y="4643280"/>
            <a:ext cx="432000" cy="517680"/>
          </a:xfrm>
          <a:prstGeom prst="downArrow">
            <a:avLst>
              <a:gd name="adj1" fmla="val 50000"/>
              <a:gd name="adj2" fmla="val 29215"/>
            </a:avLst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BF0-5B91-4F12-8A7C-43E1BA8C8B3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eft-Right Arrow 10"/>
          <p:cNvSpPr/>
          <p:nvPr/>
        </p:nvSpPr>
        <p:spPr>
          <a:xfrm>
            <a:off x="4397400" y="5429160"/>
            <a:ext cx="1000080" cy="357120"/>
          </a:xfrm>
          <a:prstGeom prst="leftRightArrow">
            <a:avLst>
              <a:gd name="adj1" fmla="val 50000"/>
              <a:gd name="adj2" fmla="val 50005"/>
            </a:avLst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76320"/>
            <a:ext cx="65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ÜME  MODEL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71600" y="857160"/>
            <a:ext cx="8458200" cy="5772240"/>
            <a:chOff x="471600" y="857160"/>
            <a:chExt cx="8458200" cy="5772240"/>
          </a:xfrm>
        </p:grpSpPr>
        <p:sp>
          <p:nvSpPr>
            <p:cNvPr id="108" name="Text Box 4"/>
            <p:cNvSpPr/>
            <p:nvPr/>
          </p:nvSpPr>
          <p:spPr>
            <a:xfrm>
              <a:off x="828720" y="2590920"/>
              <a:ext cx="133992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i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riye eklemlenme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2733840" y="2952720"/>
              <a:ext cx="674640" cy="2811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4738680" y="2952720"/>
              <a:ext cx="609480" cy="293760"/>
            </a:xfrm>
            <a:prstGeom prst="rect">
              <a:avLst/>
            </a:prstGeom>
            <a:solidFill>
              <a:srgbClr val="ecb0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4619520" y="4808520"/>
              <a:ext cx="614520" cy="282600"/>
            </a:xfrm>
            <a:prstGeom prst="rect">
              <a:avLst/>
            </a:prstGeom>
            <a:solidFill>
              <a:srgbClr val="ecb0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529000" y="4808520"/>
              <a:ext cx="593640" cy="2919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6118200" y="4808520"/>
              <a:ext cx="615960" cy="35388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3122640" y="4954680"/>
              <a:ext cx="14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5237280" y="4960800"/>
              <a:ext cx="90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089760" y="3898800"/>
              <a:ext cx="644400" cy="335160"/>
            </a:xfrm>
            <a:prstGeom prst="rect">
              <a:avLst/>
            </a:prstGeom>
            <a:solidFill>
              <a:srgbClr val="ecb0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3672000" y="3898800"/>
              <a:ext cx="650880" cy="293760"/>
            </a:xfrm>
            <a:prstGeom prst="rect">
              <a:avLst/>
            </a:prstGeom>
            <a:solidFill>
              <a:srgbClr val="ecb0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rm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22880" y="4008600"/>
              <a:ext cx="176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4959360" y="325584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3378240" y="3255840"/>
              <a:ext cx="45072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 flipH="1">
              <a:off x="4268520" y="3241800"/>
              <a:ext cx="53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>
              <a:off x="5127480" y="3255840"/>
              <a:ext cx="96228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"/>
            <p:cNvSpPr/>
            <p:nvPr/>
          </p:nvSpPr>
          <p:spPr>
            <a:xfrm>
              <a:off x="4054320" y="4203720"/>
              <a:ext cx="90504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0"/>
            <p:cNvSpPr/>
            <p:nvPr/>
          </p:nvSpPr>
          <p:spPr>
            <a:xfrm flipH="1">
              <a:off x="3095280" y="4203720"/>
              <a:ext cx="90324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>
              <a:off x="6316560" y="42242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 flipV="1">
              <a:off x="5127480" y="4164120"/>
              <a:ext cx="96228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3273480" y="2400480"/>
              <a:ext cx="2762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800" spc="-1" strike="noStrike">
                  <a:solidFill>
                    <a:srgbClr val="161645"/>
                  </a:solidFill>
                  <a:latin typeface="Arial"/>
                  <a:ea typeface="Times New Roman"/>
                </a:rPr>
                <a:t>Üretim Siste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7275600" y="2590920"/>
              <a:ext cx="1253880" cy="50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i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eriye eklemlenme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7632720" y="3452760"/>
              <a:ext cx="91116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ış Acentalar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6"/>
            <p:cNvSpPr/>
            <p:nvPr/>
          </p:nvSpPr>
          <p:spPr>
            <a:xfrm>
              <a:off x="7632720" y="4824360"/>
              <a:ext cx="1068480" cy="5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ğrudan Müşteri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V="1">
              <a:off x="6910560" y="4309920"/>
              <a:ext cx="3808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8"/>
            <p:cNvSpPr/>
            <p:nvPr/>
          </p:nvSpPr>
          <p:spPr>
            <a:xfrm>
              <a:off x="712800" y="3630600"/>
              <a:ext cx="115560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mmadde Tedarikçil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684360" y="4641840"/>
              <a:ext cx="1100160" cy="43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kina Tedarikçil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2401920" y="2286000"/>
              <a:ext cx="4495680" cy="300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1233360" y="1486080"/>
              <a:ext cx="685800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İCARİ SERVİS SAĞLAYICILAR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1" lang="tr-TR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sarımcı, Test Laboratuvarı, Nakliyeci, Finansçı, İthalatçı vb.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2071800" y="5511960"/>
              <a:ext cx="507204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TEK VE SERVİS KURUMLAR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</a:t>
              </a:r>
              <a:r>
                <a:rPr b="1" lang="tr-T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AMUSAL VE ÖZE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71600" y="1295280"/>
              <a:ext cx="84582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2909880" y="857160"/>
              <a:ext cx="365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İYASA ÇEVRES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909880" y="6324480"/>
              <a:ext cx="350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 algn="ctr"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LUSLAR ARASI ÇEV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6"/>
            <p:cNvSpPr/>
            <p:nvPr/>
          </p:nvSpPr>
          <p:spPr>
            <a:xfrm>
              <a:off x="3408480" y="306540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7300800" y="3881520"/>
              <a:ext cx="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>
              <a:off x="7300800" y="3624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7300800" y="3624120"/>
              <a:ext cx="3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>
              <a:off x="7300800" y="47386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1"/>
            <p:cNvSpPr/>
            <p:nvPr/>
          </p:nvSpPr>
          <p:spPr>
            <a:xfrm>
              <a:off x="7300800" y="5081760"/>
              <a:ext cx="3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2"/>
            <p:cNvSpPr/>
            <p:nvPr/>
          </p:nvSpPr>
          <p:spPr>
            <a:xfrm>
              <a:off x="1868400" y="38480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2033640" y="3859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4"/>
            <p:cNvSpPr/>
            <p:nvPr/>
          </p:nvSpPr>
          <p:spPr>
            <a:xfrm>
              <a:off x="1771560" y="488484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5"/>
            <p:cNvSpPr/>
            <p:nvPr/>
          </p:nvSpPr>
          <p:spPr>
            <a:xfrm>
              <a:off x="2033640" y="454356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6"/>
            <p:cNvSpPr/>
            <p:nvPr/>
          </p:nvSpPr>
          <p:spPr>
            <a:xfrm>
              <a:off x="2033640" y="3933720"/>
              <a:ext cx="12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7"/>
            <p:cNvSpPr/>
            <p:nvPr/>
          </p:nvSpPr>
          <p:spPr>
            <a:xfrm>
              <a:off x="2033640" y="4314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2200320" y="4314960"/>
              <a:ext cx="1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9"/>
            <p:cNvSpPr/>
            <p:nvPr/>
          </p:nvSpPr>
          <p:spPr>
            <a:xfrm>
              <a:off x="4662360" y="2082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0"/>
            <p:cNvSpPr/>
            <p:nvPr/>
          </p:nvSpPr>
          <p:spPr>
            <a:xfrm>
              <a:off x="4643280" y="5191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1"/>
            <p:cNvSpPr/>
            <p:nvPr/>
          </p:nvSpPr>
          <p:spPr>
            <a:xfrm>
              <a:off x="4662360" y="605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2"/>
            <p:cNvSpPr/>
            <p:nvPr/>
          </p:nvSpPr>
          <p:spPr>
            <a:xfrm>
              <a:off x="4738680" y="116856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CCB-C9A7-43AF-B572-B6C986DA20E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308240" y="7128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rnek: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nik Bilgi Transferi  Ağyapısı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533520" y="4495680"/>
            <a:ext cx="380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609480" y="5410080"/>
            <a:ext cx="3049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048120" y="2362320"/>
            <a:ext cx="838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4114800" y="2971800"/>
            <a:ext cx="5335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928800" y="638640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UZAY-HAVACILIK SANAYİ KÜMESİ   (MERKEZİ  İTAL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C0F-9E6A-4542-806B-AFB01AD9B11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09:00:34Z</dcterms:created>
  <dc:creator>TOSHIBA</dc:creator>
  <dc:description/>
  <dc:language>en-US</dc:language>
  <cp:lastModifiedBy>PC SUNU</cp:lastModifiedBy>
  <dcterms:modified xsi:type="dcterms:W3CDTF">2009-01-06T09:33:01Z</dcterms:modified>
  <cp:revision>172</cp:revision>
  <dc:subject/>
  <dc:title>İNOVASYON                            için İŞBİRLİĞİ</dc:title>
</cp:coreProperties>
</file>