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962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94C-76C8-4B9B-9006-7FE3F3F4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82915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4920"/>
            <a:ext cx="82915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16C-FD65-4459-8BF5-294A1E9F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212868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492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6492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148-87D1-4D36-AB06-3BEC96DB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26697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0880" y="2128680"/>
            <a:ext cx="26697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560" y="2128680"/>
            <a:ext cx="26697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4920"/>
            <a:ext cx="26697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0880" y="4264920"/>
            <a:ext cx="26697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560" y="4264920"/>
            <a:ext cx="26697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833-2CD2-4B70-811D-E22484D4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28680"/>
            <a:ext cx="829152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CDC-B382-4628-A115-E4FCCF57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82915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D27-1295-4C8A-9732-6BF46D94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40460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2128680"/>
            <a:ext cx="40460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66A-B6DF-4C7A-9525-D8B4567D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B3D-A3DF-4A95-B6AA-174D5383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806400"/>
            <a:ext cx="82296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D95-CAF2-40DE-92A0-26A28EF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2128680"/>
            <a:ext cx="40460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492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1C1-FE39-4F17-B9E6-A398821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40460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212868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6492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9E0-F60A-4ECB-A88A-F69C332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2868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2128680"/>
            <a:ext cx="40460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4920"/>
            <a:ext cx="82915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98C-4F8F-4DD5-84E7-99C36FD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28680"/>
            <a:ext cx="829152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9960"/>
            <a:ext cx="2133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996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9960"/>
            <a:ext cx="2133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D6C-BEC2-4DBD-AB33-A812AD80A9BE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60480"/>
            <a:ext cx="82296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99cc"/>
                </a:solidFill>
                <a:latin typeface="Arial"/>
              </a:rPr>
              <a:t>Verimli, işbirlikli ve başarılı bir çalışma diliyoru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5D5-C4E8-4BC9-86EF-2EC0AC04EB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ESİNKAP  1. Ar-Ge Proje Pazarı</a:t>
            </a:r>
            <a:br>
              <a:rPr sz="2800"/>
            </a:b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Katılım Prof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2112840"/>
          <a:ext cx="3816360" cy="1460520"/>
        </p:xfrm>
        <a:graphic>
          <a:graphicData uri="http://schemas.openxmlformats.org/drawingml/2006/table">
            <a:tbl>
              <a:tblPr/>
              <a:tblGrid>
                <a:gridCol w="3024360"/>
                <a:gridCol w="79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Toplam Katılım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Eskişehir İli Katılımcıları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Dışarıdan Katılım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plam Proje Sayısı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9640" y="3986280"/>
          <a:ext cx="3816360" cy="1227240"/>
        </p:xfrm>
        <a:graphic>
          <a:graphicData uri="http://schemas.openxmlformats.org/drawingml/2006/table">
            <a:tbl>
              <a:tblPr/>
              <a:tblGrid>
                <a:gridCol w="3024360"/>
                <a:gridCol w="792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Firma Sayısı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Üniversite Sayısı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eslek Lisesi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11C-C992-4860-A670-0406A2B02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4000" y="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7 Ocak 2009 ESİNKAP </a:t>
            </a:r>
            <a:br>
              <a:rPr sz="2800"/>
            </a:b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1. Ar-Ge Proje Pazar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9720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09.00 – 10.30 Tematik Alanlar ve Proje Sunumları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Makine ve Tasarım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Çevre/ Gıda/ Biyoteknoloji / Enerji Verimliliği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Otomasyon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Kimya/  Prose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10.30 – 11.00 Kahve Arası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11.00 – 12.30 Tematik Alanlar ve Proje Sunumları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Seramik/ Maden/ Refrakter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Elektronik/ Bilişim/ Enformasyon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Şekillendirme ve Üretim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• </a:t>
            </a: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Kontrol/ Koruma/ İşletme Verimliliği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12.30 – 14.00 Öğle Yemeği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14.00 – 16.00 İkili Görüşmeler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16.00 – 16.30 Kahve Arası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6699"/>
                </a:solidFill>
                <a:latin typeface="Arial"/>
              </a:rPr>
              <a:t>16.30 – 17.00 Kapanış Sunumu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E28-D3E7-4CF7-A678-4D3AE5DD3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064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EVU SİSTEMATİĞİ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SIL ÇALIŞI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689200"/>
          <a:ext cx="8424720" cy="1935360"/>
        </p:xfrm>
        <a:graphic>
          <a:graphicData uri="http://schemas.openxmlformats.org/drawingml/2006/table">
            <a:tbl>
              <a:tblPr/>
              <a:tblGrid>
                <a:gridCol w="1223640"/>
                <a:gridCol w="863640"/>
                <a:gridCol w="692280"/>
                <a:gridCol w="806400"/>
                <a:gridCol w="949320"/>
                <a:gridCol w="663480"/>
                <a:gridCol w="806760"/>
                <a:gridCol w="806400"/>
                <a:gridCol w="806400"/>
                <a:gridCol w="80640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 Sahibi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 Adı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0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1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1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0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4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45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00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Seda ÖLMEZ ÇAKAR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I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a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b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X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Mahmut KİPER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d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e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Seda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Myriad Pro Cond"/>
                        </a:rPr>
                        <a:t>ÖLMEZ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50920" y="4705200"/>
            <a:ext cx="8893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Proje Pazarı etkinliği sırasında “Randevu Sistematiği” tabloları salonlara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sılacaktır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Görüşmek istediğiniz proje sahibinin randevu kolonunda boş olan görüşm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ralıklarından istediğinize kendi adınızı ve soyadınızı yazınız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Bir proje sahibi başka bir proje sahibi ile görüşmek isterse, kendi randevu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kolonundaki ilgili kutuya “X” koymalıdır. Proje sunumlarının tamamlanmasını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rdından görüşme randevuları salonlarda ilan edilecek ve ikili görüşmeler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geçilecektir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68480"/>
            <a:ext cx="7859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0415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Örnek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ematik Alan: Makine ve Tasarı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20F-D3DB-4F7B-8092-0A26C3552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60480"/>
            <a:ext cx="82296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99cc"/>
                </a:solidFill>
                <a:latin typeface="Arial"/>
              </a:rPr>
              <a:t>Verimli, işbirlikli ve başarılı bir çalışma diliyoru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CAA-9E08-4C30-B6A1-090150B8CB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53:14Z</dcterms:created>
  <dc:creator>qwerty</dc:creator>
  <dc:description/>
  <dc:language>en-US</dc:language>
  <cp:lastModifiedBy>PC SUNU</cp:lastModifiedBy>
  <dcterms:modified xsi:type="dcterms:W3CDTF">2009-01-06T14:07:47Z</dcterms:modified>
  <cp:revision>33</cp:revision>
  <dc:subject/>
  <dc:title>Slayt 1</dc:title>
</cp:coreProperties>
</file>